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863-92F3-46CA-92DE-28B78A75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F226-03B6-4456-AE22-C9F4668D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7BD-94AC-46FE-8085-16CEFAB0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BFF5-2D00-4DEB-A418-DEA0EC6A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A61B-2533-4A9D-B52B-AE5735689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47B-8EF7-4EF8-8951-FDB5F432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F75-7016-4142-830B-E49A0701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9854-2FBD-4755-86B0-FD02BBB77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BB2-1DEE-4DDA-9DBA-67A314E8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A06-C312-4021-A413-D7279EC2F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309E-61A8-4CA4-B9B5-16C0CD50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D1E-0CFA-426F-B965-94C61132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participants so there are secondary people at each table mixed with the e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BCB-2B7A-4F62-ACC4-BCDEDD65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A42-D8E1-46C9-8E7A-CA1286A3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5543-DC50-45B4-B9A5-42139115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B857-310B-42F5-9A45-6BD46760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A56-7FB1-4356-AE73-B975E38F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A9E7-CE8D-4B7C-AD66-27815F1E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515-3A8C-4B4E-BC9A-8AB9D290B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28F-2878-4D0F-A493-003B22E5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99A-6220-41AA-83E2-5EA66610D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72F-0395-44AF-88F5-053FCCED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45FC-6E1B-4DD5-84DA-28BF90FAC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A67-3C33-4269-A598-327F0184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153C-146F-45E7-8FF2-9C1FB37E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62F-BFF2-4810-8A34-7B1CAC0BD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3B8B-FCCF-495B-AB0F-24E15940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EBB0-B099-4EF9-A1C9-7B075D789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452A-99FC-4E51-9192-985ECA9C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Plenary 4 TIPS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DF7-2EB1-42FB-AEFB-8499BAA3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6E91-CE34-4CE2-A21D-D29686D0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F074-509E-481C-9708-6F7662DF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088A-7901-477A-A742-E53173E45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767-0A30-4139-866A-CA09DF04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B70-0CC9-435E-A96D-B57FC69F2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2E6-7834-4D28-9399-D3E46A17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34C-EC3C-4726-8572-7F9D8219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B50-721F-4215-BEE0-FAAC7117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A456-A8F0-4903-8BDB-95ADBD97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A0A-20B6-46AE-BF87-F8B789D3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04E-DB37-49EA-94F0-5346F935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BB0B-50AE-43A6-89B9-90CC2BA0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948F-40FF-45F2-857E-A1B99FA6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C417-27FB-4628-9182-39D24767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14D8-21A6-4AC8-AB90-C1689E971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610-A9CA-4385-AEC1-F8806DB9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B30-E3CB-42C6-A95D-755E62A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A8B-5BB5-49F9-9C1C-6E7BDBA6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4A3-6F03-4C9C-B110-A1E6BBF2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ACE-2BC4-49D8-8E26-97344324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D1E2-9035-4710-9C34-83C52D44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19C-A1B5-4F3B-90D4-FB00EE14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5DD7-8DE4-4963-930D-4594777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1A4F-C9C1-44FE-85B4-0CA26C23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275-CFC2-44EB-957E-96B058F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FAC5-8FC5-4306-9416-28E00A4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BC9-9C3F-4B8A-AACB-81BDBE3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72F-467E-46AC-BC9C-4C89519C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A61-E413-4215-A3E7-27D558B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266C-6A9C-4BB8-A990-7314C3F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685C-914D-4CE6-BDAF-87A2036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797-AFF8-414B-8E49-BBA68C72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D117-0711-4FFF-9F87-F066907A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028-5598-44D0-9027-CBCC5048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6BB-4ECD-485C-B55E-36E1CD49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B10-DADA-4677-BA54-9D31B9B2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102-B1BE-4CF8-9692-01A81CB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EB3-7010-4516-9B39-60058FE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525-625A-4B28-8473-758FB2C9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600-44B5-45BD-8E4F-F77782F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CE7-76F3-46DF-879D-3DE3DFEA614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558-FF6B-4EC0-BA67-4EF16117D60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A7F-7F9E-4651-8902-C2D701D655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graph of your choice. Write its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bel the x- and y-axes and turn the graph to put it in standard position. Write the new equation. 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819A-457B-4A1D-9CB3-7D1C9520E8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05740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 equations alike?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E4A-607F-45C0-A6ED-8E9A929A90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3EE-6086-4C97-BEAA-DBDA16DB4C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are quite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FF1-9CC7-4A4C-92E7-4927C50D4E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1A2F-3BE6-4704-B8A4-7714402B70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ight such a question be effective in diagnosing student differ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6CB-7F21-4676-9300-21E4E800DB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2057400"/>
            <a:ext cx="73152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udents choose one integer and one decimal value for the missing amounts. Then they draw a picture or pictures that would help someone understand how to solve their equation:    3x – [] = 4 + []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5772-A144-4656-AB83-72FB166D05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a “role” as either a struggler or gifted studen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the required picture(s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[] = 4 + []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ry i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CDC-9F03-40D5-91B7-E838F5EEAE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205740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are your picture with two people at another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9C87-B16F-4C5B-8D31-0C9D921F69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057400"/>
            <a:ext cx="7315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hoose on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700-188E-4D21-889B-2373E7D9FB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205740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trategy do you think  I used to make this questio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2CF9-9B81-4D69-8A53-8D188F7697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CBA-E23B-4686-8B25-793491453B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0D8E-280D-4465-8718-36E101E1F9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4E5-8D5F-420F-85F1-171E6075C8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ECA3-5D4B-4A61-AC33-C8187276A3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62FC-5401-4A13-856E-40355F29A3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5F80-1160-4535-96B2-07F551AF10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olution is negative. What are some things you know have to be true about or can’t be true about the missing va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[] 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350A-8943-4195-9E0C-173EEF9B97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 solutions to these two equations alike and differ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AE4B-A3D9-4C9F-8774-E4E8095577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029-4964-4C10-AD3C-3A054C6EDF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483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52680" y="4648320"/>
          <a:ext cx="533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648320"/>
                    <a:ext cx="533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6960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57AA-B77A-4D13-83F6-3B6ED46A5AE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66A-AB2B-498F-BE85-0C6376EAC72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E8E-6914-4728-ACAD-C90D03A5DB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[ ] and [] and graph []x + []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EE7-5429-47BD-8EE7-89C5FDABE4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DC27-6FAD-4519-B8DA-9B7C45C1A5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tart with an existing TIPS lesson and try to open up each part of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CF5A-1C33-44A2-9E35-61AD8523CD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Picture 2.png"/>
          <p:cNvPicPr/>
          <p:nvPr/>
        </p:nvPicPr>
        <p:blipFill>
          <a:blip r:embed="rId1"/>
          <a:stretch/>
        </p:blipFill>
        <p:spPr>
          <a:xfrm>
            <a:off x="0" y="1820880"/>
            <a:ext cx="9144000" cy="321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EE9-A39F-4B21-AADE-9E9F33C791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Picture 3.pn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3815-7F88-4194-B1CE-226F87E205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Picture 6.png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66DB-710D-4460-A8A4-3315CF0676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Picture 7.png"/>
          <p:cNvPicPr/>
          <p:nvPr/>
        </p:nvPicPr>
        <p:blipFill>
          <a:blip r:embed="rId1"/>
          <a:stretch/>
        </p:blipFill>
        <p:spPr>
          <a:xfrm>
            <a:off x="0" y="0"/>
            <a:ext cx="895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4735-0325-45B7-A439-FE5387C262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Picture 8.png"/>
          <p:cNvPicPr/>
          <p:nvPr/>
        </p:nvPicPr>
        <p:blipFill>
          <a:blip r:embed="rId1"/>
          <a:stretch/>
        </p:blipFill>
        <p:spPr>
          <a:xfrm>
            <a:off x="380880" y="144792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9A3B-219B-4DED-A04F-0F42189F9E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8BEB-10BD-49ED-8C16-0839B33A4E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Picture 9.pn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10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343-E79D-48EE-95E3-543A5C4E24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Picture 4.png"/>
          <p:cNvPicPr/>
          <p:nvPr/>
        </p:nvPicPr>
        <p:blipFill>
          <a:blip r:embed="rId1"/>
          <a:stretch/>
        </p:blipFill>
        <p:spPr>
          <a:xfrm>
            <a:off x="0" y="2403360"/>
            <a:ext cx="9144000" cy="20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BEB6-8BD9-4A01-AEEA-A6544B5ACD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Picture 10.pn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848-0514-44A4-9EBD-7B984A5605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43000" y="2438280"/>
            <a:ext cx="7315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find a lesson where you can open up the minds-on, then another to open up the action, and another to open up the consolid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27B-DEE3-42D2-96E5-0E889352D8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143000" y="2438280"/>
            <a:ext cx="7315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act with colleagues at a different t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as their approach to opening up their lesson similar to you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as it diffe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D95-90CD-4BE1-ADF0-6D2F9A14BE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6800-28CC-413A-AC95-BF90803D3C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68E-69F8-4C35-A9FF-A6FCD6B260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43000" y="243828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641-C07E-4CFE-B34E-19DC4BB5E2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what class profile or in what situation might you use thes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BD8-677E-4387-9B3F-4ACFF1FFB61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90512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C985-7A1B-4779-83F0-7167CB663B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times when you look at a graph, you see more than one relationship at the same time. Can you think of an example of this? 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possibilities you might have consider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20:15:30Z</dcterms:created>
  <dc:creator>PSteele</dc:creator>
  <dc:description/>
  <dc:language>en-US</dc:language>
  <cp:lastModifiedBy>Marian Small</cp:lastModifiedBy>
  <dcterms:modified xsi:type="dcterms:W3CDTF">2009-07-31T20:33:13Z</dcterms:modified>
  <cp:revision>284</cp:revision>
  <dc:subject/>
  <dc:title>Slide 1</dc:title>
</cp:coreProperties>
</file>